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0EE2-625C-46E7-96F8-8F738764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653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A8866-35DA-4C90-A67C-C353BAAC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653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653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FE6C3-D279-46B5-B653-BD6F2C8D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653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653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653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321AC-3801-4F0C-9E10-0CAEE664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BF9F-4625-4160-857D-D7BA0500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DCFE-3B72-4A64-AAE8-8183E635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172F-CE1A-40BD-AC14-ABAA8863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16F4-5D3E-4D81-BE96-87BE0169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5138-B177-45F8-B50B-913D346F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EFEC-47E7-403D-A13E-6984EF83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653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F467-034D-488F-9BB6-2BA1E31A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06D40-8036-4FB8-B116-FD6F3A48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8653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7C24-7193-4BA1-9207-DEA1AAD0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653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7004-00C0-4DB4-A3FD-4E58BB2D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8653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3D16-E524-4C28-A0CD-9142C72C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653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8653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A54B-FFA9-44DF-80AC-6D8C0885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8653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8653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8653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3549-EC2D-400A-A1A0-92D853DD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31869-D10B-4A4C-B375-B9C94E93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AD130-602B-4F58-AED7-22FAEFE7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3E5A7-DD0C-40D4-87E6-D7A8A188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164FA-5213-46D9-9264-B5D912C3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653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BE078-0DD6-4EEB-B15E-4C8600D1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653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606BA-35F2-4BD1-8D7C-5536BFF9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653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5504-6065-4899-94AC-75BF086D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7362-D304-4BBB-B2B2-C819E01EE1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56FA-E4A1-481D-9B68-6AB940A9FD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THE CONFEDERATION AND THE CONSTITUTION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ndmarks In Land Law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of Confed. Congress passed important legislation that dealt wit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ld Northw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itory of Ohio Valley ceded by the states to Nat. gover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d Ordinance of 17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and S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thwest Ordinance of 178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nd Ordinance of 17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Northwest to be sold and the proceeds used to pay off the national deb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survey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divided into townships 6 miles squa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plit into 36 sections of 1 square mile each (640 acr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to be sol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not less than 1$ an ac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Had to buy a minimum of 640 acres (1 sectio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th section of each township was set aside to be sold with proceeds used for benefit of public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rveying the Old North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37480" cy="3940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rthwest Ordinance of 178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d the land into five areas (Ohio, Illinois, Michigan, Wisconsin and India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premise:  Could become states equal to original 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evolutionary territorial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erritory had 60,000 inhabitants, it could draft state Constitution and petition for admission as state by Congr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ry prohib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World’s Ugly Duckl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a thorn in US side.  H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sed to enter into a trade treat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sed to repeal the navigation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ut off their West Indian trade from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sed to abandon its forts in NW along bor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s s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n’t Congress impose trade restri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in and 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was also hostile to United Stat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rleans right to deposit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and South Eastern Ind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uted Terr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also getting hostile over deb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African pirates raid our shi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60840" y="1295280"/>
            <a:ext cx="4319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orrid Specter Of Anarc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mid-1780’s, the economic situation in America was in dire straits. 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’s credit was going ba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on debt accumulat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not paying their share of tax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. Gov’t bro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try two things to raise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inflation by printing more dolla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property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ay’s Rebe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y’s 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most freightened by Shay’s Rebellion and other outbrea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ir concer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Mobocrac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tronger federal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that civic virtue not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that civil authority not sufficient to control the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that government too closely controlled by the people is in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lude to Con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520" y="1676160"/>
            <a:ext cx="5867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ower did conservatives most want national government to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apolis Convention 178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5 states showed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ander Hamilton saves with his report calling for a Constitutional Convention the next year to amend the Arti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17188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ss not eager to call a constitutional conv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ly called a convention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e sole and express purpose of revi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he Articles of Confe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tate but Rhode Island chose a represent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 delegates from 12 states met in Philadelphia on May 25, 178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elected by the state legislatures who themselves were chosen only by landow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s held in complete secrecy. W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n Society Caused By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dus of loyalists/conserv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atriot el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 of “democra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s in separation of church and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ry started to be challe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quality for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ublican Motherh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e of the Dele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e Washington was unanimously elected chair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 Franklin was the elder statesman and the oldest at 8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Madison dubbed “Father of Constitution” — because of his contributions to the constit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31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gates were conservative and well o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but experienced states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a strong government so that could have unified trade la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stop unrestrained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racteristics of  Delega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mmering Out A Bundle Of Compromi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d to completely scrap Articles and start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ignificant issue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tate’s Plan (Virginia Pl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State’s Plan (New Jersey Pl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Compromise (Connecticut Pl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nue B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/5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 Trade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guards For Conservatis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gates agreed that unbridled democracy should be limi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tion was designed to be a bulwark against Mobocracy.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judges were to be appointed for l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 elected indirectly by Electoral Colle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ators to be chosen indirectly by state legisl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the only part of federal government chosen directly by the peo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’s On The Power Of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vo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s of National Government were limi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uld only exercise power in those areas that the constitution specified.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ther governmental functions reserved to st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ers of th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5438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deralists And Anti-federalis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rs knew that would be difficult to get national acceptance of the Constit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tates necessary to ratif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fication through state conventions.  States themselves decided how delegates to convention se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were many people against the Constit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deralists And Anti-federa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ists support the Co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Federalists oppose the Co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Federa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ed a strong central govt. and, thus, the Constitu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espectable, mostly propertied people, educ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d in settled areas along seaboard — mostly conser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e Washington, James Madison, John Marsh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ti-federa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 of Anti-Feder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tes of states’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strong central government was a threat to individual liber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country people,  less educated, and illit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a bill of rights to protect the few individual freedoms they h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d that state sovereignty was being submerged—It wa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705720" y="1752480"/>
            <a:ext cx="2022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1143000"/>
            <a:ext cx="3048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ruggle over 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321080" y="0"/>
            <a:ext cx="4632480" cy="6680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ly Emancipation in the Nor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1680" y="1219320"/>
            <a:ext cx="8686800" cy="5329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at Debate In The Sta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states accepted right away— Delaware (first), Pennsylvania, New Jersey, Georgia, then Connecti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achusetts was 6th but VIP.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land, South Carolina, New Hampshire  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Hampshire made it official with n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 Laggard Sta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though Nine had ratified, two most populous states, New York and Virginia, had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tates were critical to the new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the toughest battle.  Convention had an anti-federalist majo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ist papers written to try to turn the tide in 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deralist Pa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by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Jay, Alexander Hamilton, James Madis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anonym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 Federalist papers give lasting insights into the meaning of the constitution by those who drafte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8941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Ratified in part because of federalist papers, in part because Va. and New York Recognized that it couldn’t go i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Carolina and Rhode Island, the two cantankerous states, are the last to rati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nservative Triump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vereignty still with people, but now checks on mob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d power from the states, where embodied in one strong branch of government, to the national government were embodied equally in three branches of gover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3 branches represent the people, and the system of checks and balances protects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tion as peaceful counter-revolu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itution Making In The 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76, Continental Congress called on colonies to draft new constitu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eatures of state constitu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ded to represent fundamental la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eliberately had weak executive and judicial branch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egislatures had great po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legislatures elected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nomic Crosscurr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mericans worse off econom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away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y state and national d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Democ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facturing stimulated. 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ark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ress of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Shaky Start Towards Un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 was much more a name than a real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—Bind the 13 state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y didn’t hel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eful sig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57800" y="3200400"/>
            <a:ext cx="3222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ticles of Confed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Second Continental Cong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us of Sovereign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776, Congress appointed a committee to draft a written constitution for the new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icles of Confed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the resu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ed by Congress in 17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fied by all 13 colonies in 17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stern Land Dispute holds up 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Land C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474040" cy="5559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ects in the 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les of Confederation destined for fail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no longer completely independent, but central government had little power over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government dealt only with common affairs such as trade and foreign re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major def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2:59:26Z</dcterms:created>
  <dc:creator>John Steere</dc:creator>
  <dc:description/>
  <dc:language>en-US</dc:language>
  <cp:lastModifiedBy>Mark A. Jenkins</cp:lastModifiedBy>
  <dcterms:modified xsi:type="dcterms:W3CDTF">2008-02-20T17:30:14Z</dcterms:modified>
  <cp:revision>15</cp:revision>
  <dc:subject/>
  <dc:title>Slide 1</dc:title>
</cp:coreProperties>
</file>